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E88CC-46D3-4F9F-A155-0FD47AF2F29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7E3-9341-4357-AA84-3019C87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C0C-F433-4041-9D60-19F57D73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D13-9DCB-4D0B-AA8C-E60757EF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6A0-3C57-4A70-B4EB-419C8AE5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F889-CF48-4604-AA57-568D1793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CD4-8106-4228-9FC8-D958A9DA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27CB-8C67-4468-B296-087EDC5C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7E1-52B5-48E1-8E2C-6BB87062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211-09E9-4203-9B85-6E86A96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6510-E9C4-4CC9-BA22-67BA77C9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5333-9082-478C-AE6B-FF49F72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48E-4189-46B5-A9D6-09F2DDF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D68-6918-47A7-AD84-AEC2439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010-C94C-411C-8AE3-8DD0F86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00F3-C63E-4C68-9DEB-7C769CC0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65C-4FDD-48C2-9092-9845E3D4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354C-D732-4961-907A-0865C6B6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8330-43BD-46EE-878E-DA9FA326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53E0-F8E0-4A65-97F7-5836BE8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CF8B-A0EB-462A-A6D4-B7EA750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EEF9-AB63-4ED1-A85D-7488AA4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2E37-AC62-4A77-94E9-719341D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8D9-B342-4733-8130-0255377C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23FF-792C-4BE5-A497-28916FF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438F-7116-4E5B-A918-3198D9B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3B4D-86FC-4AEB-8571-2209BE4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BAB5-EFF3-4F80-B972-A934595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D2CD-683E-42E3-B3AE-9B2C246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41AB-C312-4704-8C88-C0CC84E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05F1-F4A8-432E-9250-0DBB8422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D4B3-5315-4247-A586-7425865F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3816-144B-4C8D-B9A7-95F7EEA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1C25-BD10-4850-AF31-5A329288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04C-AC6B-4AA6-82C4-239C97BF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C0C5-849A-4229-B6AD-8099C810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0AA44-51EA-4461-9756-F5A4FF5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CC8A-911F-48CD-B2C9-63652CC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3789-CB0A-4A05-9E5E-D408537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EF75-957D-47B7-A0AB-8C7D0C5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EDE5-43CB-4368-82E1-66B474C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9DF5-6BB6-40D0-A292-D6FF16F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6947-CDE6-436B-8FEF-EBD51C97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D852-0D52-4037-9464-1D32F097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478-8F10-4674-8674-9CE619D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1E1-9767-4F1A-B2CB-CA303C1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D6B-7F6A-47D2-AE56-0C7C365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C0E-89C1-47E4-81DF-8ADA81F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CF1-FE61-406D-B1B9-C677763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B98E4-BE41-413D-BF55-70D31B40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5151E-33C1-4E2A-A894-765EEADC34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30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03245-187A-4072-BCCF-EE6717E7E91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9B261-4DDF-4EF1-BFDA-4A7666422B0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:/Users/marc/Desktop/Osmosekraftwerk%20Referat/VideoOut.avi.WMV" TargetMode="External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Osmosekraft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945800"/>
            <a:ext cx="907092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1800" y="1440000"/>
            <a:ext cx="7558200" cy="52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040360" y="3600360"/>
            <a:ext cx="468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Das Osmosekraftwerk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Aufbau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20720" y="1619280"/>
            <a:ext cx="864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Wasseraufbereit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alz- und Süßwasser werd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Filtration von grob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rtikeln befre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 geschieht, damit d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pfindliche Membran n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gesetzt oder gar zersört w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962760" y="2160720"/>
            <a:ext cx="3117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r Druckaustaus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uck des Brackwasserablaufes wird für Salzwasserzulauf genutz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ies geschieht ohne Energieumwandlung unter Erhaltung des hydraulischen Druc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3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mbranschicht: Für Salzionen undurchläss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ützschicht: Druckstütze für Memb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296040" y="3240000"/>
            <a:ext cx="3424320" cy="306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60360" y="3060720"/>
            <a:ext cx="558000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59640" y="2160720"/>
            <a:ext cx="3060720" cy="467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0720" y="3060720"/>
            <a:ext cx="5400720" cy="414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ellulose Acetat (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ünnfilm Composite (TF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Membran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Effizien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forderliche Membraneigenschaf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urchlässig für Was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durchlässig für Sal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Kostengünsti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ünn (Minimierung der inneren Reibu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nglebig(Resistent gegen Faul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Hohe Druckbeständigke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80000" y="4680000"/>
            <a:ext cx="3600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Funktionswei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073240"/>
            <a:ext cx="1007892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459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Berechnung des osmotischen Drucks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69920" y="2732040"/>
                <a:ext cx="28908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emperatu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Gaskonstante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der</m:t>
                        </m:r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>
                        <m:r>
                          <m:t xml:space="preserve">Salzgehalt</m:t>
                        </m:r>
                        <m:r>
                          <m:t xml:space="preserve">eines</m:t>
                        </m:r>
                        <m:r>
                          <m:t xml:space="preserve">mündenden</m:t>
                        </m:r>
                        <m:r>
                          <m:t xml:space="preserve">Flusse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71520" y="5219640"/>
                <a:ext cx="7081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uck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0000" y="2332080"/>
                <a:ext cx="109368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80000" y="1800360"/>
                <a:ext cx="110808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echnung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80360" y="3240000"/>
                <a:ext cx="2458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mit</m:t>
                        </m:r>
                        <m:r>
                          <m:t xml:space="preserve"> </m:t>
                        </m:r>
                        <m:r>
                          <m:t xml:space="preserve">Einheit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</m:e>
                      <m:e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gleich</m:t>
                        </m:r>
                        <m:r>
                          <m:t xml:space="preserve"> </m:t>
                        </m:r>
                        <m:r>
                          <m:t xml:space="preserve">der</m:t>
                        </m:r>
                        <m:r>
                          <m:t xml:space="preserve"> </m:t>
                        </m:r>
                        <m:r>
                          <m:t xml:space="preserve">Atommasse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.</m:t>
                        </m:r>
                      </m:e>
                      <m:e/>
                      <m:e>
                        <m:r>
                          <m:t xml:space="preserve">Atommass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N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2,99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5,453</m:t>
                        </m:r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,</m:t>
                        </m:r>
                        <m:r>
                          <m:t xml:space="preserve">daher</m:t>
                        </m:r>
                        <m:r>
                          <m:t xml:space="preserve"> </m:t>
                        </m:r>
                        <m:r>
                          <m:t xml:space="preserve">ist</m:t>
                        </m:r>
                        <m:r>
                          <m:t xml:space="preserve"> </m:t>
                        </m:r>
                        <m:r>
                          <m:t xml:space="preserve">die</m:t>
                        </m:r>
                        <m:r>
                          <m:t xml:space="preserve"> </m:t>
                        </m:r>
                        <m:r>
                          <m:t xml:space="preserve">Molare</m:t>
                        </m:r>
                        <m:r>
                          <m:t xml:space="preserve"> </m:t>
                        </m:r>
                        <m:r>
                          <m:t xml:space="preserve">Mass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von</m:t>
                        </m:r>
                        <m:r>
                          <m:t xml:space="preserve"> </m:t>
                        </m:r>
                        <m:r>
                          <m:t xml:space="preserve">NaC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8,42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mol</m:t>
                            </m:r>
                          </m:den>
                        </m:f>
                        <m: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51200" y="3060720"/>
                <a:ext cx="290844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den>
                        </m:f>
                      </m:e>
                      <m:e/>
                      <m:e>
                        <m:r>
                          <m:t xml:space="preserve">Ostse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5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99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Flus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58,42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mo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017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  <m:e/>
                      <m:e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851280" y="6199200"/>
                <a:ext cx="2822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82</m:t>
                        </m:r>
                        <m:f>
                          <m:num>
                            <m: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8,314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93,15</m:t>
                        </m:r>
                        <m:r>
                          <m:t xml:space="preserve">K</m:t>
                        </m:r>
                      </m:e>
                      <m:e/>
                      <m:e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418,48</m:t>
                        </m:r>
                        <m: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940360" y="7189920"/>
                <a:ext cx="221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100</m:t>
                    </m:r>
                    <m:r>
                      <m:t xml:space="preserve">kP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 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14,18</m:t>
                        </m:r>
                        <m:r>
                          <m:t xml:space="preserve">b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79640" y="2160720"/>
                <a:ext cx="97632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gebe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35160" y="4680000"/>
                <a:ext cx="92556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esuch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Prototyp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0200" y="4500720"/>
            <a:ext cx="5238720" cy="3060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66 Membranröhren mit 2000m² Membranflä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-4 kW Gesamtleist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kosten von ca. 13mio.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er Energielieferant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Sonnenstrahlung verdunstet Meerwas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Über Wolkenbildung und Niederschlag gelangt dieses Wasser durch Flüsse zurück ins M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n Flussmündungen kann nun ein Teil der von der Sonne gelieferten Energie durch Osmosekraftwerke in elektrische Energie umgewandelt we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zit: Global gesehen ist die Sonne somit der eigentliche Energieliefe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7280" y="21204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RD Beitrag zum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Osm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Font typeface="Arial"/>
              <a:buAutoNum type="romanUcPeriod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Osmosekraftwe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Aufbau und Funktionswe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Wirtschaftlichkeit, Entwicklungsstand,                  Effizienz und Umweltverträg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Übersicht über Effizienzeinflüsse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tischer Druck (Stoffmengenkonzentrationsunterschied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verlust durch innere Reibung im Rohr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Membranleistung und Kos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Lage des Kraftwer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nergieeinsatz für Pumpen, Filteranla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ruckerzeugung für Effizienzsteigerung   (Druckumwandl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199280" y="3600360"/>
            <a:ext cx="25812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insetzbarkeit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02920" y="19918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2340000"/>
            <a:ext cx="7740720" cy="431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020000" y="1596960"/>
            <a:ext cx="3060720" cy="290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400880" y="4500720"/>
            <a:ext cx="26780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Standortbeisp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öhere Leistun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 Gewässern m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ohem Salzgeh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spiele: 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er, Mittelme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oßer Salzsee(Uta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34880" y="1800360"/>
            <a:ext cx="44244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Energiemarkt im Vergleich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79360" y="2228760"/>
            <a:ext cx="96012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Vor- und Nachteil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96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Vor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Erneuerbare und umweltfreundliche Energ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Überall dort einsatzfähig, wo Süßwasser auf                   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  Salzwasser triff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etterunabhängig, 24/7 Stromerzeug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Nachtei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Aufwendige Entwickl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it heutigem Entwicklungsstand kostenintensi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Mögliche Zerstörung von Mikrokultu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Hoher Platzbedar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- Wirkungsgrad: 25-3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Geschichte / Entwicklung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541520"/>
            <a:ext cx="907092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70er Jahre: Membran für die Entsalzung von Meerwasser wird                      entwickelt und dabei die Möglichkeit entdeckt,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Osmosekraft energietechnisch nutzbar machen zu                       kön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80er Jahre: Zwei Norweger erforschen die theoretischen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Möglichkeiten zur Erzeugung von Osmosekr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997: Zwei norwegische Firmen rufen ein Forschungssprojekt              ins Le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1: EU– Gelder für die Osmosekraftforsch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3: Statkraft meldet Patent für Osmosekraftmembran an und            errichtet Testan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: Prototypenbau in Tofte bei Os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vember 2009: Prototyp nimmt Betrieb a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Zukunftsaussichte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Kraftwerk von der Größe eines Fußballstadions könnte mit einer Leistung von 25 Megawatt 30.000 Haushalte versor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 der Elbe wäre ein Osmosekraft schwer vorstellbar, da durch die Tiede eine weitläufige Brackwasserzone beste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ltweites Potenzial von 1600 bis 1700 tW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21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m Osmosekraftwerk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2920" y="1488960"/>
            <a:ext cx="9070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------- 1 ------- ergibt. Diese Lösungen stellen ein Süßwasservorkommen (Fluss) und ein Salzwasservorkommen (------- 2 -------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---------- 3 ---------. Als Standorte eignen sich daher nur Orte an denen Süßwasser auf Salzwasser trifft, zum Beispiel        ------- 4 ------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------ 5 ------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as Osmosekraftwerk nutzt die Kraft des osmotischen Drucks, welcher sich durch unterschiedliche Salz- konzentrationen zwei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Lös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ergibt. Diese Lösungen stellen ein Süßwasservorkommen (Fluss) und ein Salzwasservorkommen (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) d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Je größer der Konzentrationsunterschied der beiden Lösungen ist, desto größer ist der Druck und somit auch di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Energieausbeu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Als Standorte eignen sich daher nur Orte an denen Süßwasser auf Salzwasser trifft, zum Beispiel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Flussmündung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Als Effizienzeinflüsse gelten zum Beispiel die semipermeabl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Membra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der Konzentrationsunterschied der aufeinander treffenden Lösungen und die Lage des Osmosekraftwerkes bzw. die Entfernung zur Salz- und Süßwasserquel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ffusion / Osmo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u-helmich.de/bio/cyt/reihe02/Diffusion2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edizinfo.de/arzneimittel/resorption/diffusion.s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diffus/diffus14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allig.eduvinet.de/bio/11osmose/osmo11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mosekraftwer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-o.de/dossier-483-1.html / -483-4.html / -483-5.html / -483-6.html / -483-7.html / -483-8.html / -483-9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ardmediathek.de/ard/servlet/content/3517136?documentId=423203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energy-sources/osmotic-power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Osmotic%2009%20ENG_tcm9-4591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Waterpower_XVI_-_Power_production_based_on_osmotic_pressure_tcm9-5100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statkraft.com/Images/HYDRO%202009%20-%20Unleashing%20renewable%20energies%20from%20the%20ocean_tcm9-5099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Druckaustausch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Stoffmengenkonzent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de.wikipedia.org/wiki/Universelle_Gaskonstan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gkss.de/public_relations/answers/osmose/index.html.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mp.haw-hamburg.de/pers/Watter/ErneuerbareEnergie-Dateien/Osmosekraftwerke.pd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buch-der-synergie.de/c_neu_html/c_06_11_wasser_salintaetsgradient_hydrosphaere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flickr.com/photos/44290727@N07/sets/72157622731791006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www.wendenenergie.de/Bilder/b_effizienz.jp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maps.google.com/maps/ms?ie=UTF8&amp;oe=UTF8&amp;msa=0&amp;msid=110988255057957786351.000458defae6b7147f5c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http://books.google.de/books?id=RjFLer1U7cAC&amp;printsec=frontcover&amp;dq=nachhaltige+energiesysteme++holger+watter&amp;cd=1#v=onepage&amp;q&amp;f=fal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92520" y="3060720"/>
            <a:ext cx="42274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D Beit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523440"/>
            <a:ext cx="907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Arial"/>
              </a:rPr>
              <a:t>Osmose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Diffusion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 die willkürliche Molekularbewegung sind Moleküle und damit auch die Ionen in ständiger Beweg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ilchen vermischen sich, bis ein Gleichgewicht besteht, bzw. eine gleichmäßige Konz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ffusion ist ein langsamer aber fortlaufender Proz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03880" y="5029200"/>
            <a:ext cx="3695760" cy="234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00000" y="5400720"/>
            <a:ext cx="485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Diffusion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Modell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inke Seite (rot) = Zuckerlö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e Seite (blau) = Was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mbran lässt Wassermolekü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nd Zuckerteilchen d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59280" y="3060720"/>
            <a:ext cx="4140360" cy="450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740720" y="5759280"/>
            <a:ext cx="2340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9640" y="395928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7559640" y="900000"/>
            <a:ext cx="251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Osmose = „Diffusion mit Hindernissen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ine semipermea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(halbdurchlässige) Membr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stellt das Hindernis d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Es entsteht ein osmotischer Druc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200" indent="-317520">
              <a:lnSpc>
                <a:spcPct val="187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Prozess kommt zum Stillstand, wenn osmotisches Gleichgewicht herrscht (p hydrostatisch = p osmotisch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64240" y="2070000"/>
            <a:ext cx="351648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Osmose -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nötigte Materia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1 Osm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Becherg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Spritzflasche mit Wa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20g Haushaltszu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Petrisch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Filzst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940360" y="2897280"/>
            <a:ext cx="2340000" cy="45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39160" y="161928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- Lückentext zur Osmose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2920" y="1120680"/>
            <a:ext cx="907092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------- 1 -------, bei dem sich durch eine ständige und willkürliche Bewegung der Moleküle und gleichzeitige Übertragung dieser Bewegungsenergie auf die gelösten ------- 2 -------, eine Durchmischung einstellt. Diese Durchmischung ist fortlaufend, wobei sich das Konzentrationsgefälle in ein gleichmäßiges ------- 3 -------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-------- 4 -------- / halbdurchlässigen Membran in diesen Prozess eingebunden. Durch diese Membran gelangen nur bestimmte Teilchen, die eine ------- 5 ------- Größe nicht überschreiten. Somit entsteht auf einer Seite von der Membran ein ------- 6 ------- Druck, sofern ein Konzentrations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uflös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02920" y="1281240"/>
            <a:ext cx="9070920" cy="59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Die Osmose basiert auf dem Effekt d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iffusio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bei dem sich durch eine ständige und willkürliche Bewegung der Moleküle und gleichzeitige Übertragung dieser Bewegungsenergie auf die gelöste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Ionen / Teilch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, eine Durchmischung einstellt. Diese Durchmischung ist fortlaufend, wobei sich das Konzentrationsgefälle in ein gleichmäßiges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Konzentrationsverhältnis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wandel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Bei der Osmose ist lediglich ein Hindernis in Form einer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semipermeablen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/ halbdurchlässigen Membran in diesen Prozess eingebunden. Durch diese Membran gelangen nur bestimmte Teilchen, die eine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definiert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Größe nicht überschreiten. Somit entsteht auf einer Seite von der Membran ein </a:t>
            </a:r>
            <a:r>
              <a:rPr b="1" lang="de-DE" sz="2600" spc="-1" strike="noStrike">
                <a:solidFill>
                  <a:srgbClr val="ffff00"/>
                </a:solidFill>
                <a:latin typeface="Arial"/>
              </a:rPr>
              <a:t>osmotischer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Druck, sofern ein Konzentrations-unterschied der gelösten Teilchen zwischen beiden Seiten besteh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Marc Lingenhoff</cp:lastModifiedBy>
  <cp:lastPrinted>2010-04-25T20:00:37Z</cp:lastPrinted>
  <dcterms:modified xsi:type="dcterms:W3CDTF">2010-04-25T19:58:22Z</dcterms:modified>
  <cp:revision>131</cp:revision>
  <dc:subject/>
  <dc:title/>
</cp:coreProperties>
</file>